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explode.wav" ContentType="audio/x-wav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DF63-0106-44DB-B0A0-496871064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561E-F280-43A6-996E-F13164A9AA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B54F-DCED-403A-A737-100D1AB075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545-C9B7-433B-92F1-5BC744729F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E98B-B5D4-47D0-95F6-A7825ED0A8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FF6-83E4-4324-814B-405CCAD88B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D47-EF4C-4268-8002-3B6B6A7E1D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352-F65C-4BD9-82C4-C240D82149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FC0B-2084-4E29-80DE-6F9FBF9965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727-9EF2-4D97-927C-55BFFCED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537-00CC-4506-AA2D-19CBC027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D69-ECAF-422B-82B8-8E20DE1F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A94-943A-4383-AED7-78E6321E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3269-C5D0-4F24-8941-7A1D187B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3797-8627-4857-B59F-B56D0F6B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EEED-022B-4BB6-B7B4-1CBC2F76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CE54-8683-400C-8E77-0B8520B3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D9F-CE7B-4C72-9237-5FE06E1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7ABD-09D7-4D74-90DF-EF514DC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CD96-CC6A-4202-A5B3-1F43DEA4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9AA-BB0B-4295-8493-44D7CA20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EB65-D869-487D-990E-600C2E2C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261A-0465-4E65-AE41-1D0AD30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89D-1F8F-4051-9728-3401F2E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F67F-1468-44E2-B399-CB5B7AFB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1A75-06B4-4CE3-8CB7-E68423A2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5653-7C93-41A7-A43F-8944EC60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AFAA-03CA-4F85-8E30-E04E4263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569F-DECB-49BC-AEA7-571C5AD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0F4D-C66E-4DF1-884A-CFA73F7D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148F-0C9C-420C-B3C4-A6ACEB9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D77-64E9-4C3C-ACE5-C294A8C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7A07-C8D0-41E3-9F8D-79F6856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57DE-DB78-40DF-9EC0-78BAA2C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F54A-5AB6-4CFD-9555-3967AA7D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C366-EE3C-4DA6-AF02-C291325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8A9B-6FE3-4966-AE21-E1DDD60F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534F-E988-40ED-B6D9-88B9F930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8036-ED9D-48F8-BE1C-60051765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6581D-1122-4C14-850C-D73A6E94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2E9C-9664-4459-9B8F-7635C6A7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0D62-B3E9-489F-9198-AFAB86A8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83B-0353-40FA-AD23-8598EC2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F090-AC9A-4741-BE4E-2D27AA5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1E02-366C-4360-8D3F-CE43DB25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97962-C794-45E9-A2A4-1A14E5E6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3EE9-5A12-43C5-B13E-7DD9A2E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C4AA-511F-4652-922D-F72FE42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AE04-82B7-47F1-BF59-5D6FF31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D495-743E-4598-B9BC-638A4E4E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6044-5AD0-401E-9A5F-A68FD3DF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51B7-1D63-49D0-9CE0-6058E470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E4C3-3461-42CE-AB94-5A08E969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9D4-65F3-48AE-96D3-D3E3C31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1FF14-28DC-48F0-B64F-0F92792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11562-58F9-45EC-BD2D-02CD5171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80FB7-640D-4DD8-A47B-019322C6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734E-6CE8-4484-B233-6BB9BC4E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B3E34-88B5-49DF-92C4-E1951733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76587-F9C3-416B-94AF-32D3890F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BC89-9B86-4B7C-B792-1CB93A25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688A-E5D9-45BA-9BC5-ED53120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0548-9AB0-4690-8B01-53813A2C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FEFD-8084-4E3D-B982-18C50202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776-6DEC-4936-B127-DA7C424B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EBDF9-C195-4759-B124-EA82F7C4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D4C3-8339-46EF-9EFE-D3C7059B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7B62B-F076-4077-9E5A-7B390EB8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BDEF1-4607-4245-BDE2-8CF0E1A1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DD954-D7FA-4D2A-99FD-06327AC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4CED7-06B8-4073-A41D-275CA0A5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FB680-9A8A-4968-B2F4-9A667851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3A491-3ECB-401F-84C3-149CD06E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C9DCF-D6E4-4262-B45F-12AE823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0794-DDF0-4AE1-BAC6-2AA759F5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354-F519-41DF-BCE2-25C81FA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1AD5-5516-4C8B-BB95-4C62D5B1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078B-55D8-4554-BF41-D005C522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0474-F6BC-4E75-BA83-0DD25BFC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30D-E7DE-45C9-923E-0B890B4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77C-8F55-45DA-9A27-3113420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4E8B-7EAD-4A30-94B2-DB9CC3D80FEB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3C72-2F58-4A17-93EF-528F889D0A08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7949-FDD7-4ABA-91FA-43F81FC47FA5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FEB-F795-49B2-98F2-A8C757D2E961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231-7919-41C8-9034-E46DA8BBE422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8D59-205A-46AD-9845-966F916BA4C5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2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subject is rea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4022640" y="2525760"/>
            <a:ext cx="1098720" cy="1806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newsflash/>
    <p:sndAc>
      <p:stSnd>
        <p:snd r:embed="rId2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book is Holes by Louis Sacha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place is Legola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food is pizz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meet Ole Kirk. The creator of leg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am afraid of  sto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be a vetenarian when I get old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3846600" y="2517840"/>
            <a:ext cx="1450800" cy="1822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newsflash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8:08Z</dcterms:created>
  <dc:creator> pc#23</dc:creator>
  <dc:description/>
  <dc:language>en-US</dc:language>
  <cp:lastModifiedBy> pc#23</cp:lastModifiedBy>
  <dcterms:modified xsi:type="dcterms:W3CDTF">2009-11-12T19:55:03Z</dcterms:modified>
  <cp:revision>5</cp:revision>
  <dc:subject/>
  <dc:title>Who am I</dc:title>
</cp:coreProperties>
</file>